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jpeg" ContentType="image/jpeg"/>
  <Override PartName="/ppt/media/image16.png" ContentType="image/png"/>
  <Override PartName="/ppt/media/image15.png" ContentType="image/png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11.jpeg" ContentType="image/jpeg"/>
  <Override PartName="/ppt/media/image2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6.png" ContentType="image/png"/>
  <Override PartName="/ppt/media/image30.wmf" ContentType="image/x-wmf"/>
  <Override PartName="/ppt/media/image28.wmf" ContentType="image/x-wmf"/>
  <Override PartName="/ppt/media/image42.wmf" ContentType="image/x-wmf"/>
  <Override PartName="/ppt/media/image37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E82A-1040-437E-B61C-974AD789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44E2-D78A-439C-B1B0-970F2286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8C92-7EC7-49F9-871E-2E96A214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0950-9096-464F-A3B1-80EE69ED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CCE1-90C3-4686-8182-7DD6D104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E7E7-2E1A-4E50-A823-B9804B36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F73D-ABB9-40D5-8BA1-F12BD848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FE06-321D-41FE-B68D-0FC99310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E20-71BA-4BA3-A636-28194833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9FEE-4E51-4A77-8890-4337C08D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5FF1-BFFA-4A3C-8028-F06F010D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878F-8A06-4D4E-BBEC-4B7D3CF0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6E55-89E9-4EB7-BF7C-E12E4BE021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roomd113.com/TAKS%20TEST.htm" TargetMode="Externa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777240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.Use lab aprons and safety goggles during all laboratory sess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When diluting acid add acid to water slowly, stirring constantl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To smell something, hold it away from your nose and waft the fumes towards your nos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Point the test tube away from you and others when heat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.Never heat anything in a closed containe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.Reactions that produce toxic gases should be performed in a fume hoo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7.Broken glass should be placed in a proper containe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8.While analyzing samples wear rubber glov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9.When working with dissections or chemicals, keep your hands away from your fac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467480" cy="5594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34290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59436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15328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848360" cy="5880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867280" y="615636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33523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ine graph is a visual display that uses plotted points and lines to show a relationship betwee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VARIAB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 graphs have two scales called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ax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dependent variable on this graph is plotted on th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xi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pendent variable is plotted on th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x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3865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029200" y="152280"/>
            <a:ext cx="41148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prediction is what is likely to happen based on observa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rocess of extending predicting values beyond points plotted on a graphed line is called </a:t>
            </a:r>
            <a:r>
              <a:rPr b="0" lang="en-US" sz="2200" spc="-1" strike="noStrike">
                <a:solidFill>
                  <a:srgbClr val="00ff00"/>
                </a:solidFill>
                <a:latin typeface="Arial"/>
              </a:rPr>
              <a:t>extrapol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rocess of predicting values between the graphed points is called </a:t>
            </a:r>
            <a:r>
              <a:rPr b="0" lang="en-US" sz="2200" spc="-1" strike="noStrike">
                <a:solidFill>
                  <a:srgbClr val="00ff00"/>
                </a:solidFill>
                <a:latin typeface="Arial"/>
              </a:rPr>
              <a:t>interpol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809880"/>
            <a:ext cx="914400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will be the temperature of the water after it has been heated for 70 minutes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is the temperature of the water after 15 minutes of heating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is the dependent variable in this graph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00"/>
                </a:solidFill>
                <a:latin typeface="Arial"/>
              </a:rPr>
              <a:t>TEMPERA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001000" cy="5992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477120" y="60199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772400" cy="5823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72200" y="615636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infer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n interpretation based on experience and knowledge rather than on direct observ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bags of garbage are at the curb when you leave for school but are gone when you return, you infer that a garbage pickup took place although you did not see it happ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33920" cy="3224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62520" y="0"/>
            <a:ext cx="518148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title would you give this grap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Volume – Pressure Relation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independent variable in this grap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ress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dependent variable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Volu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ould be a valid conclusion drawn from this graph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As pressure increases, volume decre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3976560"/>
            <a:ext cx="3809880" cy="2265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9880" y="3962520"/>
            <a:ext cx="5334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ember the steeper the slope, the greater the chan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segment of the graph shows the vehicle moving with greatest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segment of the graph shows no mov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114800" cy="3282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43400" y="304920"/>
            <a:ext cx="480060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r graphs are useful in </a:t>
            </a:r>
            <a:r>
              <a:rPr b="0" lang="en-US" sz="2600" spc="-1" strike="noStrike">
                <a:solidFill>
                  <a:srgbClr val="00ff00"/>
                </a:solidFill>
                <a:latin typeface="Arial"/>
              </a:rPr>
              <a:t>comparing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data of several item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roperty being measured appears in the </a:t>
            </a:r>
            <a:r>
              <a:rPr b="0" lang="en-US" sz="2600" spc="-1" strike="noStrike">
                <a:solidFill>
                  <a:srgbClr val="00ff00"/>
                </a:solidFill>
                <a:latin typeface="Arial"/>
              </a:rPr>
              <a:t>vertica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xi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data being compared appears on the </a:t>
            </a:r>
            <a:r>
              <a:rPr b="0" lang="en-US" sz="2600" spc="-1" strike="noStrike">
                <a:solidFill>
                  <a:srgbClr val="00ff00"/>
                </a:solidFill>
                <a:latin typeface="Arial"/>
              </a:rPr>
              <a:t>horizonta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xi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4114800"/>
            <a:ext cx="891540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the given graph which fruit had maximum sal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Arial"/>
              </a:rPr>
              <a:t>Oran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the given bar graph how many more kilograms of apples were sold than mango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Arial"/>
              </a:rPr>
              <a:t>18 K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467480" cy="559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172200" y="59436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4300560" cy="3878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495680" y="228600"/>
            <a:ext cx="4496040" cy="63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total spending is $55,000, how much money was spent on highway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ey spent on highway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$50,000x 7/100  = $3,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ximately how many times the amount of spending on highways is spent on educ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ey spent on educ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$50,000x 34/100 = $17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$17,000/ $3,500 = 4.86 times more money was spent on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1814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nditure of state and local govern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772400" cy="5823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086600" y="60199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8077320" cy="6051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934320" y="5943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076960" cy="6051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0" y="61563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3520" y="165240"/>
            <a:ext cx="8229600" cy="6165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91520" y="6216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153640" cy="610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543800" y="61563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077320" cy="6051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543800" y="61563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153640" cy="610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4876920"/>
            <a:ext cx="762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615636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229600" cy="6166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0" y="6216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7924680" cy="5937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629400" y="615636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391520" cy="5537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5880" y="59436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01000" cy="5992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934320" y="615636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696440" cy="5765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362320" y="60958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7mL – 38mL = 9 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6166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086600" y="6216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Evaluating Promotional Material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 group is the group not receiving experimental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fully read claims and make sure you can separate fact from opin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carefully if the claim is based on scientific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claim is based on data, what kind of data is used to support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534520" cy="6392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543800" y="6278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77320" cy="6051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629400" y="615636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6960" cy="6051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8600" y="403848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6216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229600" cy="6165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077320" y="615636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cientific Metho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cientific method is the process of seeking answers to scientific ques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4582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391520" cy="5535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5880" y="5867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8168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33520" y="457200"/>
          <a:ext cx="7772400" cy="5802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7772400" cy="58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696080" cy="5765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705720" y="61563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5994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086600" y="615636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7772400" cy="5823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315200" y="615636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305920" cy="6222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20120" y="615636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937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162920" y="615636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1"/>
              </a:rPr>
              <a:t>http://www.roomd113.com/TAKS%20TEST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Nature of Science Quiz Answer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a)290 MILES  b) 11.92 miles/hour    c) The car was at rest d) Going in the reverse direction e) 20 miles in the first 2 hours  f) 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 a) Quantity Demanded  Per week of Bushel   b) No        c)10 Bushel per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a) 1070  b) 13% c) 330  d) 2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 a) Atomic Number b) Ionization Energy c) 5  d) Helium e) V-shap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379440" y="47520"/>
            <a:ext cx="9902880" cy="65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Lab Equip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hat equipment would you use to measure the density of a marble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99"/>
                </a:solidFill>
                <a:latin typeface="Arial"/>
              </a:rPr>
              <a:t>Graduated cylinder, triple beam bala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ill you use to distinguish between an acid and a ba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itmus p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lab equipment would you use to measure the kinetic energ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 toy c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riple beam balance, ruler, stop w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nstrument is used to measure the temperatu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ermome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evice is used to measure waveleng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pectro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nstrument is used to measure light intensit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ightme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239240" cy="542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562720" y="58672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238880" cy="5423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943600" y="5791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543800" cy="5651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19920" y="58672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708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400800" y="59436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18:58:43Z</dcterms:created>
  <dc:creator>Clear Creek ISD</dc:creator>
  <dc:description/>
  <dc:language>en-US</dc:language>
  <cp:lastModifiedBy>Clear Creek ISD</cp:lastModifiedBy>
  <dcterms:modified xsi:type="dcterms:W3CDTF">2009-04-17T19:54:20Z</dcterms:modified>
  <cp:revision>23</cp:revision>
  <dc:subject/>
  <dc:title>Slide 1</dc:title>
</cp:coreProperties>
</file>